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761-E3E8-47CC-815C-0081EED1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554-651C-45BF-8A0C-4DEC6B09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3D0-12DE-430E-B6E2-0DD31AD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7E3-C4F5-4959-89FE-71A6D97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4EBD-E152-4038-88E2-E6FE857B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CAB7-BA8B-4B93-B338-10E05B1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840-1792-44A3-91E5-FD1C1FBC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214C-07C7-4091-82BF-C685666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DD5F-93A7-4C6C-9D29-14C3FC7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9A9F-45BC-4272-9E56-26F5C82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973D-8459-4CB6-95D4-25E380F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91D-03F0-4C40-9EC2-E8CCBE5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852-991B-4BC2-808E-647891A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1572-FBB5-4A5F-B9B0-D9AD491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A519-F75F-4C1A-84C4-7E7912C3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D70-771F-46A1-B007-B1998E65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593D-5B1E-4C68-8D5E-11C43194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D0F-8F61-4F74-AAC2-36F9227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CAD-9C6A-4C43-946D-7705BB8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48E-CFCD-4E60-947E-CCEEC9C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3D9-8330-4B4C-9FB0-550A6762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FE4-20BC-48E3-A969-F15448C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8FB-C257-4B5F-B89D-6BEEF1C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8A9-9D61-40AB-809D-E430C1F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C0CE-52F8-4DD1-9856-7615EBF7B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B28-77A4-461E-9634-267D0E455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ne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han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or Stell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eriod:  Portfolio optimization is done only at the beginning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ty in stock returns:  Upside and downside are symmetr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the standard Utility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(average upside return + average downside return) + RAP * upside variance - RAP * downsid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hort se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228600"/>
          <a:ext cx="8305920" cy="65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5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228600"/>
          <a:ext cx="8153280" cy="65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15328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risk and return approach scored the highest return with 5.54% beating the benchmark sector return by about 1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n annualized basis, the performance is gre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after-tax adjusted basis, this portfolio beat the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4280" y="24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81200" y="304920"/>
          <a:ext cx="8362800" cy="63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04920"/>
                    <a:ext cx="83628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ector of S&amp;P500 has been difficult to man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etrics like P/E and expected growth are not applicable to these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approach to managing this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rtfolio of technology stocks with greater upside and smaller downside relative to the benchmark (S&amp;P Tech Inde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difference between upside return and downside retu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standard deviation of upside return and decrease the standard deviation of downside re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Focus on the Technology Sec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one of the largest sectors in the overall S&amp;P500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xcluding this sector a portfolio manager would not benefit from gains should tech stocks do well, and diversification would be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wildly volatile and therefore needs careful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metrics such as ROE, P/E, Growth Rates, and DCF models have generated nonsensical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advantage will arise if a better methodology is disco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mpile daily returns of the S&amp;P Technology Sector stocks (Currently 80 st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“survivorship bias” we chose 9/19/2000 (latest date for which all 80 stocks have retur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lack of data, daily returns were used in lieu of month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imul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conomy - not enough historical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ti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returns and standard deviation would be unstable due to heavy fluctuation of daily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estimates of parameters will change wildly from day to day, portfolio optimization will be difficult leading to higher transaction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we need to simulate the returns from past data to create “smoothed” more stable parameter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s po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posi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upside retur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n neg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nega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downsid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risk and correlation structure of tech st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variance-covariance matrix on the time series of upside and downsid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culation is done over a 30 day period and rolled forward by one day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linear optimization, create optimal portfol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he estimated parameters with an Objectiv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Mean - RAP * variance (Markowi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version Parameter = 0.4668 (Shar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0:58:25Z</dcterms:created>
  <dc:creator>JungWon Lee</dc:creator>
  <dc:description/>
  <dc:language>en-US</dc:language>
  <cp:lastModifiedBy>Victor Stellakis</cp:lastModifiedBy>
  <dcterms:modified xsi:type="dcterms:W3CDTF">2002-05-01T15:45:46Z</dcterms:modified>
  <cp:revision>39</cp:revision>
  <dc:subject/>
  <dc:title>Portfolio Optimization</dc:title>
</cp:coreProperties>
</file>